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C13C-8CF6-46D8-AEF8-5E586B1A6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793F-F6F7-4522-8B1F-91FA0B0FB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A622-7133-41DC-BBC3-DBE7AF8FE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EFB3-8222-4644-9A2E-F4B1C9D8A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9D83-2835-4C62-A80C-EA9B1549A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7AB8-1E6C-4BDD-AAE9-3579BB117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8921-A373-40E8-ADDE-CDDE88EAF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303F-CCE0-4F05-A401-8639C9E07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D0BF-FD6A-46F5-AC37-3F94E47CE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0AD7-F50E-4F80-ABC4-83557B6AE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A8F9-9BA5-4909-8DD9-257E523CC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BF9C-AB87-4FE5-B34C-0D2907EC8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4EF53-702A-49F4-A976-94A1E14DC605}" type="slidenum"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 algn="ctr"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08000" y="11592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BenQ Siemens Jerry –Org Chart per site &amp;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627280" y="112392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A Jie Ga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51280" y="54936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PM Kheng Wa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1989000"/>
            <a:ext cx="1511280" cy="2876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-T Arjen Broe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0360" y="1989000"/>
            <a:ext cx="1511280" cy="2876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 HW Lars Bon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40360" y="1989000"/>
            <a:ext cx="1511280" cy="2876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-T Xin Juan So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948360" y="235116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ann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948360" y="278280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 CM/IM/D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948360" y="321480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48360" y="364644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 Q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48360" y="407844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 M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948360" y="451008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T 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948360" y="494352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48360" y="5302080"/>
            <a:ext cx="1511280" cy="2876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- H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411280" y="1844640"/>
            <a:ext cx="3384720" cy="43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867280" y="1844640"/>
            <a:ext cx="2737080" cy="43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1844640"/>
            <a:ext cx="2017440" cy="43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84360" y="242100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 SW Yang Yong Qia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852640"/>
            <a:ext cx="180000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W Archite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76720" y="3284640"/>
            <a:ext cx="180000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W Q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76720" y="4870440"/>
            <a:ext cx="180000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rd Party: SISL Indi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9640" y="1989000"/>
            <a:ext cx="1511280" cy="2876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PM Zhang Shua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3716280"/>
            <a:ext cx="180000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ystem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86800" y="1482840"/>
            <a:ext cx="23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te: Beijing / Software / 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60080" y="1463760"/>
            <a:ext cx="256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te: Aarlborg HW/ Mechan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3520" y="1268280"/>
            <a:ext cx="20278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te: Beijing/Shanghai/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usiness Ope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76720" y="4149720"/>
            <a:ext cx="180000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285264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CM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321300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ccessory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357336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Variant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95280" y="393228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ustomer C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429264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pplication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465300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trategy Procur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01336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Q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5280" y="537228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O P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Jerry – Project Team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9" name=""/>
          <p:cNvSpPr/>
          <p:nvPr/>
        </p:nvSpPr>
        <p:spPr>
          <a:xfrm>
            <a:off x="170640" y="809640"/>
            <a:ext cx="28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Status 21 Feb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324480" y="358128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105520" y="4676760"/>
            <a:ext cx="35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105440" y="3686040"/>
            <a:ext cx="0" cy="34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848200" y="3676680"/>
            <a:ext cx="0" cy="34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753320" y="4676760"/>
            <a:ext cx="0" cy="34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610480" y="4686480"/>
            <a:ext cx="0" cy="34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371600" y="3552840"/>
            <a:ext cx="0" cy="113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7840" y="4676760"/>
            <a:ext cx="338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7840" y="4686480"/>
            <a:ext cx="0" cy="34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09600" y="4686480"/>
            <a:ext cx="0" cy="34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38320" y="4676760"/>
            <a:ext cx="0" cy="34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76400" y="4676760"/>
            <a:ext cx="0" cy="34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28960" y="4686480"/>
            <a:ext cx="0" cy="34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990960" y="1924200"/>
            <a:ext cx="0" cy="77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57200" y="271476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66560" y="2705040"/>
            <a:ext cx="8220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294760" y="4888080"/>
            <a:ext cx="755640" cy="4856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BOM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D. Niels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78480" y="3941640"/>
            <a:ext cx="792000" cy="630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LCM3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K. Hilk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1276200" y="271476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3762360" y="269568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2066760" y="269568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914560" y="271476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581360" y="271476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438880" y="271476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6248520" y="271476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840" y="2957400"/>
            <a:ext cx="792360" cy="6303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PSO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B.L. Thoms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44760" y="2957400"/>
            <a:ext cx="792360" cy="63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PL SW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Yang Y.Q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85880" y="2957400"/>
            <a:ext cx="792360" cy="6303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PL QM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T. Bartel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P. Sonderga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14600" y="2957400"/>
            <a:ext cx="792000" cy="6303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PL MD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C. P. Niels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79960" y="2957400"/>
            <a:ext cx="792000" cy="63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ST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Li Y.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 Wei X.K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14800" y="2957400"/>
            <a:ext cx="792360" cy="6303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PE 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M. Svends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843520" y="2967120"/>
            <a:ext cx="792360" cy="63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HW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P. E. Ra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70120" y="2957400"/>
            <a:ext cx="792000" cy="6303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PL CM/IM/DL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A. Hans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7067520" y="271476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7858080" y="271476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8696160" y="271476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84840" y="2967120"/>
            <a:ext cx="792360" cy="630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GRM R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A. Sprin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510320" y="2967120"/>
            <a:ext cx="792360" cy="630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AD 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A. Maierhof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319960" y="2967120"/>
            <a:ext cx="792360" cy="63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I2P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P. E. Ra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00440" y="3941640"/>
            <a:ext cx="792360" cy="6303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LCM1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J. Ried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991040" y="2705040"/>
            <a:ext cx="0" cy="128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89640" y="3941640"/>
            <a:ext cx="792000" cy="63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SQA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Hu X.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095720" y="3686040"/>
            <a:ext cx="17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0360" y="4888080"/>
            <a:ext cx="755640" cy="485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SW </a:t>
            </a:r>
            <a:br>
              <a:rPr sz="1000"/>
            </a:b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Architecture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S. Burke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22320" y="4888080"/>
            <a:ext cx="755640" cy="48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L1 /HW </a:t>
            </a:r>
            <a:br>
              <a:rPr sz="1000"/>
            </a:b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rel. SW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44560" y="4888080"/>
            <a:ext cx="755640" cy="48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Protoco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Stack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67160" y="4888080"/>
            <a:ext cx="755640" cy="485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Requirement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Huang Q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456000" y="4888080"/>
            <a:ext cx="755640" cy="485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CM-P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Ma Y.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14880" y="4676760"/>
            <a:ext cx="0" cy="34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00840" y="4676760"/>
            <a:ext cx="0" cy="34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905520" y="4686480"/>
            <a:ext cx="0" cy="34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738680" y="4888080"/>
            <a:ext cx="755640" cy="4856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RF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M. Bramm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627520" y="4888080"/>
            <a:ext cx="755640" cy="4856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DHW </a:t>
            </a:r>
            <a:br>
              <a:rPr sz="1000"/>
            </a:b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Baseband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F.B. Kristens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516720" y="4888080"/>
            <a:ext cx="755640" cy="4856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LPD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R. Ba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405560" y="4888080"/>
            <a:ext cx="755640" cy="4856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EA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A.B. 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Kristens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376440" y="1541520"/>
            <a:ext cx="1181160" cy="63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TPM</a:t>
            </a:r>
            <a:br>
              <a:rPr sz="1200"/>
            </a:b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Zhang 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672080" y="1598760"/>
            <a:ext cx="971640" cy="5634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PL-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L. Bon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19680" y="1598760"/>
            <a:ext cx="971640" cy="563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PL-T</a:t>
            </a:r>
            <a:br>
              <a:rPr sz="1200"/>
            </a:b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ong X.Y.</a:t>
            </a:r>
            <a:br>
              <a:rPr sz="1200"/>
            </a:b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A. Broe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04920" y="1598760"/>
            <a:ext cx="971640" cy="563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Lin Y.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52520" y="1598760"/>
            <a:ext cx="971640" cy="563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CP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Koh K.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272280" y="5865840"/>
            <a:ext cx="644400" cy="1731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Minion"/>
                <a:ea typeface="文鼎中黑"/>
              </a:rPr>
              <a:t>A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75520" y="6122880"/>
            <a:ext cx="644400" cy="17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Minion"/>
                <a:ea typeface="文鼎中黑"/>
              </a:rPr>
              <a:t>BEJ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269040" y="6380280"/>
            <a:ext cx="644400" cy="172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Minion"/>
                <a:ea typeface="文鼎中黑"/>
              </a:rPr>
              <a:t>KLF / M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962760" y="722160"/>
            <a:ext cx="971640" cy="5637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Key Customer P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T. Bart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010360" y="722160"/>
            <a:ext cx="971640" cy="5637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C. Luts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95720" y="763560"/>
            <a:ext cx="49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Jerry Project Plan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613404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804960"/>
            <a:ext cx="847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363320" y="7635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78440" y="763560"/>
            <a:ext cx="49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152160" y="763560"/>
            <a:ext cx="55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086360" y="763560"/>
            <a:ext cx="47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Ju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951800" y="763560"/>
            <a:ext cx="41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Ju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746320" y="763560"/>
            <a:ext cx="53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645960" y="763560"/>
            <a:ext cx="49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513920" y="763560"/>
            <a:ext cx="49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384760" y="7635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44600" y="1033560"/>
            <a:ext cx="847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23720" y="792000"/>
            <a:ext cx="0" cy="531504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17520" y="8031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73600" y="816120"/>
            <a:ext cx="0" cy="5325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662440" y="8031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551640" y="816120"/>
            <a:ext cx="0" cy="5325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440480" y="8031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31120" y="7905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21760" y="1096920"/>
            <a:ext cx="38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81200" y="1096920"/>
            <a:ext cx="44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83720" y="1096920"/>
            <a:ext cx="48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984200" y="1096920"/>
            <a:ext cx="38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984280" y="1109520"/>
            <a:ext cx="38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569640" y="1096920"/>
            <a:ext cx="38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113600" y="109692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9240" y="1096920"/>
            <a:ext cx="71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3/S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73640" y="1096920"/>
            <a:ext cx="44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106720" y="8031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995560" y="816120"/>
            <a:ext cx="0" cy="5325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84760" y="8031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95480" y="1650960"/>
            <a:ext cx="158724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A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711520" y="1650960"/>
            <a:ext cx="115884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A1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08520" y="1650960"/>
            <a:ext cx="126360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199120" y="1650960"/>
            <a:ext cx="132084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791400" y="1650960"/>
            <a:ext cx="93024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Ramp-U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95580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120960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175572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272088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12136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608652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665172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720396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768672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085760" y="1484280"/>
            <a:ext cx="0" cy="467856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327320" y="147168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886040" y="14209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51200" y="14209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238720" y="14335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203880" y="145908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81680" y="14335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334280" y="14335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829640" y="14335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529320" y="1695600"/>
            <a:ext cx="263520" cy="2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Pilot Ru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076400" y="2212920"/>
            <a:ext cx="73980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Design 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Free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835280" y="2212920"/>
            <a:ext cx="9777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Design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832120" y="2212920"/>
            <a:ext cx="9399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Hardt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440" y="2212920"/>
            <a:ext cx="131112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Plastic Parts 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143680" y="2212920"/>
            <a:ext cx="13395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Plastic Parts 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82600" y="2852640"/>
            <a:ext cx="9003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print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101680" y="2852640"/>
            <a:ext cx="9003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print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030480" y="2852640"/>
            <a:ext cx="90000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print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951360" y="2852640"/>
            <a:ext cx="90000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print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114560" y="3252960"/>
            <a:ext cx="95868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pc simu setu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tart-up / power on dialo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dl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Phone spaces, colour schemes, icons, fon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oice call screen basi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Menu look and feel basi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Contact list and menu op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Remove or disable or hide featu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104920" y="3252960"/>
            <a:ext cx="93024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tartup As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tartup/ power on dialogu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dl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Contact list &amp; menu op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creen Trans. (Sliding Effect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olume Side, Ringer Side &amp; and lock k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ync. incl. remote sync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ettin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iew Contact Lo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Remove,disable or hide featu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48120" y="3252960"/>
            <a:ext cx="93024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tartup As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dl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oice call screens full funct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oice messag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MsgA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Menu look &amp; Feel – full complian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Contact List &amp; Menu Op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creen Transitions (Sliding Effect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iew contact lo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Remove, disable or hide featu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F Simply Alarm Cloc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014720" y="3252960"/>
            <a:ext cx="93996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dl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nterruption by even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leep mode with timer settin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Text messages (SM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hover functionality in Contact li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F Simply Alar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MsgA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" y="2714760"/>
            <a:ext cx="8077320" cy="9360"/>
          </a:xfrm>
          <a:prstGeom prst="line">
            <a:avLst/>
          </a:prstGeom>
          <a:ln w="38160">
            <a:solidFill>
              <a:srgbClr val="66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1480" y="1690560"/>
            <a:ext cx="1011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Hard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095560" y="5900760"/>
            <a:ext cx="647640" cy="17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Test by V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044880" y="5900760"/>
            <a:ext cx="647640" cy="17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Test by V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75120" y="5900760"/>
            <a:ext cx="647640" cy="17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Test by V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960800" y="5891040"/>
            <a:ext cx="839880" cy="177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Pre-Test by V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835600" y="5888160"/>
            <a:ext cx="1362240" cy="188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Pre-Test by V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610320" y="5327640"/>
            <a:ext cx="1316160" cy="398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Global SW Approv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7043760" y="559044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2280" y="2246400"/>
            <a:ext cx="10645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echan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6800" y="2854440"/>
            <a:ext cx="9259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55640" y="115560"/>
            <a:ext cx="66247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GB" sz="3200" spc="-1" strike="noStrike">
                <a:solidFill>
                  <a:srgbClr val="3a0e66"/>
                </a:solidFill>
                <a:latin typeface="Minion"/>
              </a:rPr>
              <a:t>Jerry Vodafone Approval plan (SGL)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1004760" y="980640"/>
            <a:ext cx="180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1449360" y="980640"/>
            <a:ext cx="14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895400" y="980640"/>
            <a:ext cx="180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2343240" y="980640"/>
            <a:ext cx="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2787480" y="980640"/>
            <a:ext cx="180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3230640" y="980640"/>
            <a:ext cx="14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60520" y="980640"/>
            <a:ext cx="14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 flipV="1">
            <a:off x="4123800" y="980640"/>
            <a:ext cx="176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4564080" y="980640"/>
            <a:ext cx="468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 flipV="1">
            <a:off x="5016600" y="980640"/>
            <a:ext cx="3024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 flipV="1">
            <a:off x="5435640" y="980640"/>
            <a:ext cx="792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 flipV="1">
            <a:off x="6351480" y="980640"/>
            <a:ext cx="2232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3660840" y="980640"/>
            <a:ext cx="1908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6804000" y="1052640"/>
            <a:ext cx="1440" cy="5472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7307280" y="980640"/>
            <a:ext cx="14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5867280" y="980640"/>
            <a:ext cx="792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04000" y="1700280"/>
            <a:ext cx="465120" cy="0"/>
          </a:xfrm>
          <a:prstGeom prst="line">
            <a:avLst/>
          </a:prstGeom>
          <a:ln w="38160">
            <a:solidFill>
              <a:srgbClr val="80008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607080" y="3878280"/>
            <a:ext cx="1508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372360" y="1052640"/>
            <a:ext cx="15062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VF fin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ccep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164360" y="1628640"/>
            <a:ext cx="120600" cy="144720"/>
          </a:xfrm>
          <a:prstGeom prst="diamond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238480" y="1697040"/>
            <a:ext cx="3989160" cy="3240"/>
          </a:xfrm>
          <a:prstGeom prst="line">
            <a:avLst/>
          </a:prstGeom>
          <a:ln w="38160">
            <a:solidFill>
              <a:srgbClr val="80008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441360" y="1696680"/>
            <a:ext cx="1531800" cy="34920"/>
          </a:xfrm>
          <a:prstGeom prst="line">
            <a:avLst/>
          </a:prstGeom>
          <a:ln w="38160">
            <a:solidFill>
              <a:srgbClr val="800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156360" y="1628640"/>
            <a:ext cx="122040" cy="144720"/>
          </a:xfrm>
          <a:prstGeom prst="diamond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380360" y="1844640"/>
            <a:ext cx="1085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tart shi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164040" y="1314360"/>
            <a:ext cx="180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CF / TA s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039760" y="1625760"/>
            <a:ext cx="119160" cy="144360"/>
          </a:xfrm>
          <a:prstGeom prst="diamond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476360" y="2492280"/>
            <a:ext cx="825480" cy="144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3276720" y="2491920"/>
            <a:ext cx="3527280" cy="144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804000" y="2492280"/>
            <a:ext cx="466920" cy="144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965160" y="2666880"/>
            <a:ext cx="180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e-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265480" y="2685960"/>
            <a:ext cx="361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cceptance te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13480" y="2852640"/>
            <a:ext cx="1084320" cy="3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i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101080" y="2276640"/>
            <a:ext cx="1440" cy="2616120"/>
          </a:xfrm>
          <a:prstGeom prst="line">
            <a:avLst/>
          </a:prstGeom>
          <a:ln w="2844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627280" y="2060640"/>
            <a:ext cx="361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8 wee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221000"/>
            <a:ext cx="174600" cy="235080"/>
          </a:xfrm>
          <a:prstGeom prst="triangle">
            <a:avLst>
              <a:gd name="adj" fmla="val 57144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771640" y="4653000"/>
            <a:ext cx="16416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Test Phase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859280" y="4941720"/>
            <a:ext cx="173160" cy="23508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859280" y="4941720"/>
            <a:ext cx="113364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B2 Samp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059280" y="4869000"/>
            <a:ext cx="172800" cy="233280"/>
          </a:xfrm>
          <a:prstGeom prst="triangle">
            <a:avLst>
              <a:gd name="adj" fmla="val 57144"/>
            </a:avLst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003640" y="4292640"/>
            <a:ext cx="173160" cy="235080"/>
          </a:xfrm>
          <a:prstGeom prst="triangle">
            <a:avLst>
              <a:gd name="adj" fmla="val 50000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641120" y="4653000"/>
            <a:ext cx="144108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Test Phase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6298560" y="4365720"/>
            <a:ext cx="1441080" cy="536400"/>
            <a:chOff x="6298560" y="4365720"/>
            <a:chExt cx="1441080" cy="536400"/>
          </a:xfrm>
        </p:grpSpPr>
        <p:sp>
          <p:nvSpPr>
            <p:cNvPr id="269" name=""/>
            <p:cNvSpPr/>
            <p:nvPr/>
          </p:nvSpPr>
          <p:spPr>
            <a:xfrm>
              <a:off x="6701760" y="4365720"/>
              <a:ext cx="173160" cy="234000"/>
            </a:xfrm>
            <a:prstGeom prst="triangle">
              <a:avLst>
                <a:gd name="adj" fmla="val 50000"/>
              </a:avLst>
            </a:prstGeom>
            <a:solidFill>
              <a:srgbClr val="bad1e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298560" y="4651920"/>
              <a:ext cx="144108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t">
              <a:sp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2b5d"/>
                  </a:solidFill>
                  <a:latin typeface="Arial"/>
                </a:rPr>
                <a:t>Start Test Phase 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1403280" y="4292640"/>
            <a:ext cx="173160" cy="235080"/>
          </a:xfrm>
          <a:prstGeom prst="triangle">
            <a:avLst>
              <a:gd name="adj" fmla="val 57144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85840" y="4633920"/>
            <a:ext cx="108432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Pre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48000" y="4869000"/>
            <a:ext cx="10080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B2 Samp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2700000" y="5494320"/>
            <a:ext cx="4692960" cy="259920"/>
            <a:chOff x="2700000" y="5494320"/>
            <a:chExt cx="4692960" cy="259920"/>
          </a:xfrm>
        </p:grpSpPr>
        <p:sp>
          <p:nvSpPr>
            <p:cNvPr id="275" name=""/>
            <p:cNvSpPr/>
            <p:nvPr/>
          </p:nvSpPr>
          <p:spPr>
            <a:xfrm flipH="1">
              <a:off x="2699640" y="5502240"/>
              <a:ext cx="198360" cy="203400"/>
            </a:xfrm>
            <a:prstGeom prst="flowChartExtra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4314240" y="5502240"/>
              <a:ext cx="199800" cy="203400"/>
            </a:xfrm>
            <a:prstGeom prst="flowChartExtra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6188040" y="5502240"/>
              <a:ext cx="200160" cy="203400"/>
            </a:xfrm>
            <a:prstGeom prst="flowChartExtra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459320" y="5499000"/>
              <a:ext cx="113508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t">
              <a:sp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2b5d"/>
                  </a:solidFill>
                  <a:latin typeface="Arial"/>
                </a:rPr>
                <a:t>SW Drop 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825640" y="5504040"/>
              <a:ext cx="113184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t">
              <a:sp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2b5d"/>
                  </a:solidFill>
                  <a:latin typeface="Arial"/>
                </a:rPr>
                <a:t>SW Drop 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259320" y="5494320"/>
              <a:ext cx="113364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t">
              <a:sp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2b5d"/>
                  </a:solidFill>
                  <a:latin typeface="Arial"/>
                </a:rPr>
                <a:t>SW Drop 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324000" y="4192560"/>
            <a:ext cx="7777080" cy="2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00800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939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4493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3385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78280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225960" y="411948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67020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1133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556160" y="411948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0007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44212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88636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372360" y="414972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804000" y="414972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08720" y="414972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6340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62760" y="4005360"/>
            <a:ext cx="133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570640" y="4005360"/>
            <a:ext cx="1364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489720" y="401652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948360" y="400536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01328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595520" y="4013280"/>
            <a:ext cx="1317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103400" y="401328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0920" y="4005360"/>
            <a:ext cx="1335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02000" y="401328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943360" y="4013280"/>
            <a:ext cx="133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116680" y="4016520"/>
            <a:ext cx="1364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687920" y="401652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365640" y="4005360"/>
            <a:ext cx="133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51280" y="4024440"/>
            <a:ext cx="133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86160" y="4024440"/>
            <a:ext cx="1317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014480" y="4849920"/>
            <a:ext cx="172800" cy="233280"/>
          </a:xfrm>
          <a:prstGeom prst="triangle">
            <a:avLst>
              <a:gd name="adj" fmla="val 57144"/>
            </a:avLst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258920" y="4869000"/>
            <a:ext cx="113184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B1 Samp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rot="16200000">
            <a:off x="1244880" y="3306960"/>
            <a:ext cx="6879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03.07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344520" y="5494320"/>
            <a:ext cx="200160" cy="20160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76360" y="5497560"/>
            <a:ext cx="113184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SW Drop Pre</a:t>
            </a: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73440" y="3756240"/>
            <a:ext cx="39708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-720" bIns="46080" anchor="t" vert="eaVer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52440" y="2773440"/>
            <a:ext cx="3319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2b5d"/>
                </a:solidFill>
                <a:latin typeface="Arial"/>
              </a:rPr>
              <a:t>S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88360" y="2881440"/>
            <a:ext cx="2448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2b5d"/>
                </a:solidFill>
                <a:latin typeface="Arial"/>
              </a:rPr>
              <a:t>S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812000" y="414972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524720" y="400536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7124040" y="3326040"/>
            <a:ext cx="7207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2.10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rot="16200000">
            <a:off x="6620760" y="3324240"/>
            <a:ext cx="7207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25.09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rot="16200000">
            <a:off x="3038760" y="3375000"/>
            <a:ext cx="6879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31.07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rot="16200000">
            <a:off x="4838040" y="3378240"/>
            <a:ext cx="6825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28.8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09800" y="2492280"/>
            <a:ext cx="393840" cy="144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411280" y="2492280"/>
            <a:ext cx="287640" cy="144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411280" y="2060640"/>
            <a:ext cx="10083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Bugfix +re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Xinbing Mao</dc:creator>
  <dc:description/>
  <dc:language>en-US</dc:language>
  <cp:lastModifiedBy>Selma Samrowski</cp:lastModifiedBy>
  <dcterms:modified xsi:type="dcterms:W3CDTF">2006-02-21T17:16:25Z</dcterms:modified>
  <cp:revision>169</cp:revision>
  <dc:subject/>
  <dc:title>PowerPoint</dc:title>
</cp:coreProperties>
</file>